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DF572-21F2-44A5-BDB7-0808928C1A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F73F-BD3B-4AC5-BC9E-C7BE9464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56F3A-B998-487C-BAE7-1F321950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B005-F506-4818-BD5B-B2EC371E53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AC1B5-4079-4888-8255-A91529A6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69C7-756B-42CC-808E-F9DDF9C1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6BAF-C37C-4396-BFAD-B1F3D3F3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83374-C56B-4CF5-AE79-A2D20AD6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3098-1B6F-4C1F-8862-A71C5E80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F8AE-E836-44A3-AFA3-1F412840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26AF-8C41-4EE9-AF64-8B63447E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EBDC7-43EC-4FE2-9B6B-F096823F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CA14-6830-44E7-8911-ACEC2907FA0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63700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二节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传统物理疗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211640" y="5229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吴军     袁海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治疗疾病的方法称为中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中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双向无电解作用；②对神经肌肉组织有兴奋作用；③能克服组织电阻，与低频电流相比，能作用到更深的组织；④可用低频电流调制，调制中频电流具有双重作用；⑤有镇痛和促进血液循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2340000" y="1052640"/>
            <a:ext cx="5113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6760" y="1989000"/>
            <a:ext cx="8610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等幅正弦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频率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等幅正弦电流治疗疾病的方法，习惯称为“音频电”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1028" descr="uniscan26"/>
          <p:cNvPicPr/>
          <p:nvPr/>
        </p:nvPicPr>
        <p:blipFill>
          <a:blip r:embed="rId1"/>
          <a:stretch/>
        </p:blipFill>
        <p:spPr>
          <a:xfrm>
            <a:off x="5005440" y="3432240"/>
            <a:ext cx="3571920" cy="30970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2050920" y="1052640"/>
            <a:ext cx="59756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3276720" y="407664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3276720" y="4724280"/>
            <a:ext cx="934920" cy="14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3276720" y="537372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3276720" y="602136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66760" y="2063520"/>
            <a:ext cx="8610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调制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被低频电流调制后的中频电流治疗疾病的方法，又称脉冲中频电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2556000" y="981000"/>
            <a:ext cx="5111640" cy="1079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3348000" y="386064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3348000" y="4581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348000" y="515772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348000" y="5805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2349360"/>
            <a:ext cx="86108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干扰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两路频率分别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与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±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通过两组电极交叉输入人体，在电场线交叉处形成干扰场，产生差频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低频调制中频电流，以这种干扰电流治疗疾病的方法称为干扰电疗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2195640" y="1052640"/>
            <a:ext cx="6121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700360" y="494172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700360" y="537372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2700360" y="580536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700360" y="623736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6104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高频电流作用于人体以治疗疾病的方法称为高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高频电流的特点有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对神经肌肉不产生兴奋性；②在治疗时电极可以离开皮肤；③温热效应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908000" y="1341360"/>
            <a:ext cx="648180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989000"/>
            <a:ext cx="861048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超短波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应用波长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频率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0M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电流的超高频电场治疗疾病的方法称为超短波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2050920" y="981000"/>
            <a:ext cx="597708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276720" y="4076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276720" y="465300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276720" y="5300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03640" y="595008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Picture 5" descr="c:\users\sam\appdata\roaming\360se6\USERDA~1\Temp\902291~1.JPG"/>
          <p:cNvPicPr/>
          <p:nvPr/>
        </p:nvPicPr>
        <p:blipFill>
          <a:blip r:embed="rId1"/>
          <a:stretch/>
        </p:blipFill>
        <p:spPr>
          <a:xfrm>
            <a:off x="5580000" y="3429000"/>
            <a:ext cx="3052800" cy="30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2637000"/>
            <a:ext cx="9001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）微波疗法：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微波是波长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的高频电磁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波长不同将其分为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个波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分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厘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毫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m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1258920" y="1341360"/>
            <a:ext cx="648000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249228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微波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692360" y="1341360"/>
            <a:ext cx="518472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3492360" y="3573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419640" y="429264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419640" y="501336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419640" y="573408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3" descr="20090225043747862.jpg"/>
          <p:cNvPicPr/>
          <p:nvPr/>
        </p:nvPicPr>
        <p:blipFill>
          <a:blip r:embed="rId1"/>
          <a:stretch/>
        </p:blipFill>
        <p:spPr>
          <a:xfrm>
            <a:off x="6012000" y="3213000"/>
            <a:ext cx="2525400" cy="26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人工光源或日光辐射治疗疾病的方法称为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常用的光疗法分为红外线疗法、可见光疗法、紫外线疗法和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1979640" y="1268280"/>
            <a:ext cx="5040360" cy="1152720"/>
          </a:xfrm>
          <a:custGeom>
            <a:avLst/>
            <a:gdLst>
              <a:gd name="textAreaLeft" fmla="*/ 1150560 w 5040360"/>
              <a:gd name="textAreaRight" fmla="*/ 3889800 w 5040360"/>
              <a:gd name="textAreaTop" fmla="*/ 263160 h 1152720"/>
              <a:gd name="textAreaBottom" fmla="*/ 8895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71760" y="357120"/>
            <a:ext cx="4309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红外线治疗疾病的方法称为红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红外线根据波长可将红外线分为两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0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远红外线（长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近红外线（短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3059280" y="1197000"/>
            <a:ext cx="3168360" cy="865080"/>
          </a:xfrm>
          <a:prstGeom prst="wedgeEllipseCallout">
            <a:avLst>
              <a:gd name="adj1" fmla="val -43736"/>
              <a:gd name="adj2" fmla="val 109814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380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电治疗疾病的方法称为电疗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所采用电流频率的不同，通常将电疗法分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直流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低频电疗法（小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0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中频电疗法（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高频电疗法（大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179280" y="260280"/>
            <a:ext cx="6264360" cy="129564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一）电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920" y="2781000"/>
            <a:ext cx="861048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6" descr="NA01062_"/>
          <p:cNvPicPr/>
          <p:nvPr/>
        </p:nvPicPr>
        <p:blipFill>
          <a:blip r:embed="rId1"/>
          <a:stretch/>
        </p:blipFill>
        <p:spPr>
          <a:xfrm>
            <a:off x="5940360" y="3141720"/>
            <a:ext cx="2635200" cy="2349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2700360" y="1484280"/>
            <a:ext cx="3456000" cy="719280"/>
          </a:xfrm>
          <a:prstGeom prst="wedgeEllipseCallout">
            <a:avLst>
              <a:gd name="adj1" fmla="val -25009"/>
              <a:gd name="adj2" fmla="val 120199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635280" y="314172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708360" y="386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3708360" y="458136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3708360" y="530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蓝紫光治疗疾病的方法称为蓝紫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76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9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用于治疗新生儿高胆红素血症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268360" y="1052640"/>
            <a:ext cx="3672000" cy="674640"/>
          </a:xfrm>
          <a:prstGeom prst="wedgeEllipseCallout">
            <a:avLst>
              <a:gd name="adj1" fmla="val -43731"/>
              <a:gd name="adj2" fmla="val 79884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6104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2627280" y="1773360"/>
            <a:ext cx="3816360" cy="934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780000" y="3429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3780000" y="422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80000" y="566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3780000" y="4869000"/>
            <a:ext cx="1441440" cy="28872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紫外线防治疾病的方法称为紫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光谱分段及其生物学作用特点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长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40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色素沉着、荧光反应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红斑反应及生物学作用最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1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对细菌和病毒的杀灭及抑制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556000" y="1052640"/>
            <a:ext cx="3959280" cy="720720"/>
          </a:xfrm>
          <a:prstGeom prst="wedgeEllipseCallout">
            <a:avLst>
              <a:gd name="adj1" fmla="val -43745"/>
              <a:gd name="adj2" fmla="val 93833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2852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红斑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定剂量的紫外线照射皮肤或黏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小时后，局部出现界限清楚的红斑，红斑持续时间为十余小时至数日，局部可有皮肤脱屑或色素沉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紫外线红斑剂量见教材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紫外线红斑分级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411280" y="1052640"/>
            <a:ext cx="4608720" cy="936360"/>
          </a:xfrm>
          <a:prstGeom prst="wedgeEllipseCallout">
            <a:avLst>
              <a:gd name="adj1" fmla="val -17962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920" y="3284280"/>
            <a:ext cx="861048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生物剂量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个生物剂量即最小红斑量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minimal erythema dose, ME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，是指紫外线灯管在一定距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垂直照射下引起机体最弱红斑反应（阈红斑反应）所需要的时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627280" y="1628640"/>
            <a:ext cx="4033800" cy="720720"/>
          </a:xfrm>
          <a:prstGeom prst="wedgeEllipseCallout">
            <a:avLst>
              <a:gd name="adj1" fmla="val -43740"/>
              <a:gd name="adj2" fmla="val 155949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627280" y="1341360"/>
            <a:ext cx="4033800" cy="936720"/>
          </a:xfrm>
          <a:prstGeom prst="wedgeEllipseCallout">
            <a:avLst>
              <a:gd name="adj1" fmla="val -43740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995640" y="5950080"/>
            <a:ext cx="1513080" cy="21564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995640" y="5084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4067280" y="3429000"/>
            <a:ext cx="1512720" cy="21600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3995640" y="4292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79930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是指受激辐射放大的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既具有一般光的反射、折射、干涉等物理特性，又具有亮度高、单色性好、定向性强、相干性好等特性。应用激光治疗疾病的方法称为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2771640" y="1413000"/>
            <a:ext cx="3456000" cy="1079280"/>
          </a:xfrm>
          <a:prstGeom prst="cloudCallout">
            <a:avLst>
              <a:gd name="adj1" fmla="val -45037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激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24000" y="2852280"/>
            <a:ext cx="86104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351240" y="1745280"/>
            <a:ext cx="2391480" cy="794160"/>
          </a:xfrm>
          <a:prstGeom prst="rect">
            <a:avLst/>
          </a:prstGeom>
          <a:solidFill>
            <a:srgbClr val="e781e2"/>
          </a:solidFill>
          <a:ln w="9360">
            <a:solidFill>
              <a:srgbClr val="046ca6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光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92436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3924360" y="393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3924360" y="465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3924360" y="537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Users\sam\AppData\Roaming\Tencent\Users\437005999\QQ\WinTemp\RichOle\9XS1`Y09QU`0AC0@4]9QJ_E.jpg"/>
          <p:cNvPicPr/>
          <p:nvPr/>
        </p:nvPicPr>
        <p:blipFill>
          <a:blip r:embed="rId1"/>
          <a:stretch/>
        </p:blipFill>
        <p:spPr>
          <a:xfrm>
            <a:off x="1643040" y="2786040"/>
            <a:ext cx="6000840" cy="342108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5"/>
          <p:cNvSpPr/>
          <p:nvPr/>
        </p:nvSpPr>
        <p:spPr>
          <a:xfrm>
            <a:off x="2050920" y="1341360"/>
            <a:ext cx="5042160" cy="1150920"/>
          </a:xfrm>
          <a:prstGeom prst="downArrowCallout">
            <a:avLst>
              <a:gd name="adj1" fmla="val 109535"/>
              <a:gd name="adj2" fmla="val 1095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三）超声波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63664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直流电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药物离子导入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借助直流电将药物离子通过皮肤、黏膜或伤口导入人体以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55640" y="1341360"/>
            <a:ext cx="785016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5600" y="491400"/>
            <a:ext cx="409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57176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超声波是指频率在</a:t>
            </a:r>
            <a:r>
              <a:rPr b="1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以上，不能引起正常人听觉反应的机械振动波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应用超声波治疗疾病的方法称为超声波疗法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临床治疗常用的超声波频率为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800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1000kHz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340000" y="260280"/>
            <a:ext cx="4680000" cy="1081080"/>
          </a:xfrm>
          <a:prstGeom prst="downArrowCallout">
            <a:avLst>
              <a:gd name="adj1" fmla="val 108235"/>
              <a:gd name="adj2" fmla="val 1082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495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治疗作用 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镇痛、解痉；②软化瘢痕、松解粘连；③促进水肿吸收；④组织修复；⑤溶栓效应；⑥调节神经血管及内脏功能；⑦治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2411280" y="1052640"/>
            <a:ext cx="4681800" cy="1081080"/>
          </a:xfrm>
          <a:prstGeom prst="downArrowCallout">
            <a:avLst>
              <a:gd name="adj1" fmla="val 108277"/>
              <a:gd name="adj2" fmla="val 108267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511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610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药物渗入疗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雾化吸入法：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763640" y="1125360"/>
            <a:ext cx="4537080" cy="1081440"/>
          </a:xfrm>
          <a:prstGeom prst="downArrowCallout">
            <a:avLst>
              <a:gd name="adj1" fmla="val 104895"/>
              <a:gd name="adj2" fmla="val 10488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4211640" y="3284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4427640" y="4076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5580000" y="472428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5364000" y="558972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应证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2556000" y="1484280"/>
            <a:ext cx="4465440" cy="1081080"/>
          </a:xfrm>
          <a:prstGeom prst="downArrowCallout">
            <a:avLst>
              <a:gd name="adj1" fmla="val 103273"/>
              <a:gd name="adj2" fmla="val 103263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2340000" y="364500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2340000" y="429264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95280" y="2421000"/>
            <a:ext cx="561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磁场的物理性能作用于人体以治疗疾病的方法称为磁疗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磁场强度和方向的变化，磁场可分为恒定磁场、交变磁场、脉动磁场及脉冲磁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2916360" y="1341360"/>
            <a:ext cx="4321080" cy="1079640"/>
          </a:xfrm>
          <a:custGeom>
            <a:avLst/>
            <a:gdLst>
              <a:gd name="textAreaLeft" fmla="*/ 986400 w 4321080"/>
              <a:gd name="textAreaRight" fmla="*/ 3334680 w 432108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图片 3" descr="200964944444002.jpg"/>
          <p:cNvPicPr/>
          <p:nvPr/>
        </p:nvPicPr>
        <p:blipFill>
          <a:blip r:embed="rId1"/>
          <a:stretch/>
        </p:blipFill>
        <p:spPr>
          <a:xfrm>
            <a:off x="5961240" y="2852640"/>
            <a:ext cx="3182760" cy="35006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2627280" y="5013360"/>
            <a:ext cx="4392720" cy="107964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4427640" y="1773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4427640" y="249228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42764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4356000" y="4005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9" descr="hf"/>
          <p:cNvPicPr/>
          <p:nvPr/>
        </p:nvPicPr>
        <p:blipFill>
          <a:blip r:embed="rId1"/>
          <a:stretch/>
        </p:blipFill>
        <p:spPr>
          <a:xfrm>
            <a:off x="6156360" y="2205000"/>
            <a:ext cx="2663640" cy="15843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20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生物反馈疗法是将人们正常情况下意识不到的肌电、皮温、心率、血压等体内功能变化，借助电子仪器，转变为可识别的光、声、图像、曲线等信号，再让患者根据这种信号学会控制其自身的不随意功能，以达到调节生理功能及治疗某些身心疾病的目的。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1979640" y="1197000"/>
            <a:ext cx="5256360" cy="1224000"/>
          </a:xfrm>
          <a:custGeom>
            <a:avLst/>
            <a:gdLst>
              <a:gd name="textAreaLeft" fmla="*/ 1199880 w 5256360"/>
              <a:gd name="textAreaRight" fmla="*/ 4056480 w 52563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物反馈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95280" y="3141360"/>
            <a:ext cx="86104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572640" y="2089080"/>
            <a:ext cx="2565360" cy="577080"/>
          </a:xfrm>
          <a:prstGeom prst="rect">
            <a:avLst/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物反馈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211640" y="342900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211640" y="414972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4211640" y="486900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4211640" y="573408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0" name="Picture 8" descr="hh"/>
          <p:cNvPicPr/>
          <p:nvPr/>
        </p:nvPicPr>
        <p:blipFill>
          <a:blip r:embed="rId1"/>
          <a:stretch/>
        </p:blipFill>
        <p:spPr>
          <a:xfrm>
            <a:off x="6300720" y="3573360"/>
            <a:ext cx="2289240" cy="24735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4000" y="2852640"/>
            <a:ext cx="3887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826920" y="205992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传导热疗法种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340344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8" name="Picture 5" descr="u=1817464996,3584166768&amp;fm=23&amp;gp=0"/>
          <p:cNvPicPr/>
          <p:nvPr/>
        </p:nvPicPr>
        <p:blipFill>
          <a:blip r:embed="rId1"/>
          <a:stretch/>
        </p:blipFill>
        <p:spPr>
          <a:xfrm>
            <a:off x="4427640" y="981000"/>
            <a:ext cx="4295520" cy="2857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8-1111291SSR38"/>
          <p:cNvPicPr/>
          <p:nvPr/>
        </p:nvPicPr>
        <p:blipFill>
          <a:blip r:embed="rId2"/>
          <a:srcRect l="0" t="0" r="0" b="31715"/>
          <a:stretch/>
        </p:blipFill>
        <p:spPr>
          <a:xfrm>
            <a:off x="4643280" y="3860640"/>
            <a:ext cx="38163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离子导入人体的深度及去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离子被直流电直接导入的深度不超过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其去向有：①在皮下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以内的深度形成“离子堆”；②导入的药物也可随血液或淋巴液进入人体远隔部位产生治疗作用；③通过刺激神经末梢或经络腧穴产生治疗作用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37360" y="1569240"/>
            <a:ext cx="3168360" cy="4942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340344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2" name="Picture 5" descr="xianyiyuan2011929161057"/>
          <p:cNvPicPr/>
          <p:nvPr/>
        </p:nvPicPr>
        <p:blipFill>
          <a:blip r:embed="rId1"/>
          <a:srcRect l="28274" t="34519" r="19751" b="0"/>
          <a:stretch/>
        </p:blipFill>
        <p:spPr>
          <a:xfrm>
            <a:off x="6327720" y="1628640"/>
            <a:ext cx="2816280" cy="3894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"/>
          <p:cNvPicPr/>
          <p:nvPr/>
        </p:nvPicPr>
        <p:blipFill>
          <a:blip r:embed="rId2"/>
          <a:srcRect l="16606" t="0" r="16155" b="13412"/>
          <a:stretch/>
        </p:blipFill>
        <p:spPr>
          <a:xfrm>
            <a:off x="1979640" y="3645000"/>
            <a:ext cx="4032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6" name="Picture 5" descr="u=3882561586,1752628040&amp;fm=23&amp;gp=0"/>
          <p:cNvPicPr/>
          <p:nvPr/>
        </p:nvPicPr>
        <p:blipFill>
          <a:blip r:embed="rId1"/>
          <a:stretch/>
        </p:blipFill>
        <p:spPr>
          <a:xfrm>
            <a:off x="4859280" y="350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u=372992456,1291015261&amp;fm=21&amp;gp=0"/>
          <p:cNvPicPr/>
          <p:nvPr/>
        </p:nvPicPr>
        <p:blipFill>
          <a:blip r:embed="rId2"/>
          <a:stretch/>
        </p:blipFill>
        <p:spPr>
          <a:xfrm>
            <a:off x="5292720" y="1413000"/>
            <a:ext cx="279072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0" name="Picture 7" descr="u=167722838,292901374&amp;fm=23&amp;gp=0"/>
          <p:cNvPicPr/>
          <p:nvPr/>
        </p:nvPicPr>
        <p:blipFill>
          <a:blip r:embed="rId1"/>
          <a:stretch/>
        </p:blipFill>
        <p:spPr>
          <a:xfrm>
            <a:off x="4932360" y="3645000"/>
            <a:ext cx="3657600" cy="2857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u=2723483286,2708663520&amp;fm=21&amp;gp=0"/>
          <p:cNvPicPr/>
          <p:nvPr/>
        </p:nvPicPr>
        <p:blipFill>
          <a:blip r:embed="rId2"/>
          <a:stretch/>
        </p:blipFill>
        <p:spPr>
          <a:xfrm>
            <a:off x="4932360" y="1052640"/>
            <a:ext cx="33847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325908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4" name="Picture 5" descr="u=1415306219,1793046454&amp;fm=23&amp;gp=0"/>
          <p:cNvPicPr/>
          <p:nvPr/>
        </p:nvPicPr>
        <p:blipFill>
          <a:blip r:embed="rId1"/>
          <a:stretch/>
        </p:blipFill>
        <p:spPr>
          <a:xfrm>
            <a:off x="4284720" y="1716120"/>
            <a:ext cx="41767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2" descr="u=958240499,2809129390&amp;fm=23&amp;gp=0"/>
          <p:cNvPicPr/>
          <p:nvPr/>
        </p:nvPicPr>
        <p:blipFill>
          <a:blip r:embed="rId1"/>
          <a:stretch/>
        </p:blipFill>
        <p:spPr>
          <a:xfrm>
            <a:off x="6156360" y="988920"/>
            <a:ext cx="3095640" cy="1935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6907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8" name="Picture 7" descr="u=3076176869,282206348&amp;fm=23&amp;gp=0"/>
          <p:cNvPicPr/>
          <p:nvPr/>
        </p:nvPicPr>
        <p:blipFill>
          <a:blip r:embed="rId2"/>
          <a:stretch/>
        </p:blipFill>
        <p:spPr>
          <a:xfrm>
            <a:off x="6119640" y="2492280"/>
            <a:ext cx="3024360" cy="2076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u=2048766348,3133871720&amp;fm=15&amp;gp=0"/>
          <p:cNvPicPr/>
          <p:nvPr/>
        </p:nvPicPr>
        <p:blipFill>
          <a:blip r:embed="rId3"/>
          <a:stretch/>
        </p:blipFill>
        <p:spPr>
          <a:xfrm>
            <a:off x="6119640" y="4581360"/>
            <a:ext cx="3024360" cy="1874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u=4062452839,2590065808&amp;fm=15&amp;gp=0"/>
          <p:cNvPicPr/>
          <p:nvPr/>
        </p:nvPicPr>
        <p:blipFill>
          <a:blip r:embed="rId4"/>
          <a:stretch/>
        </p:blipFill>
        <p:spPr>
          <a:xfrm>
            <a:off x="1390680" y="4292640"/>
            <a:ext cx="3686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947960"/>
            <a:ext cx="33303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3" name="Picture 6" descr="u=2818144435,1530857793&amp;fm=21&amp;gp=0"/>
          <p:cNvPicPr/>
          <p:nvPr/>
        </p:nvPicPr>
        <p:blipFill>
          <a:blip r:embed="rId1"/>
          <a:stretch/>
        </p:blipFill>
        <p:spPr>
          <a:xfrm>
            <a:off x="5064120" y="2421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七）水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9640" y="1341360"/>
            <a:ext cx="2880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9" name="Picture 7" descr="22123"/>
          <p:cNvPicPr/>
          <p:nvPr/>
        </p:nvPicPr>
        <p:blipFill>
          <a:blip r:embed="rId1"/>
          <a:srcRect l="25204" t="13069" r="0" b="19055"/>
          <a:stretch/>
        </p:blipFill>
        <p:spPr>
          <a:xfrm>
            <a:off x="4572000" y="2709720"/>
            <a:ext cx="4103640" cy="3743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121102090557407"/>
          <p:cNvPicPr/>
          <p:nvPr/>
        </p:nvPicPr>
        <p:blipFill>
          <a:blip r:embed="rId2"/>
          <a:srcRect l="0" t="0" r="0" b="14712"/>
          <a:stretch/>
        </p:blipFill>
        <p:spPr>
          <a:xfrm>
            <a:off x="4572000" y="981000"/>
            <a:ext cx="4103640" cy="200844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2967120" y="2381400"/>
            <a:ext cx="3209760" cy="20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13" descr="100709-3"/>
          <p:cNvPicPr/>
          <p:nvPr/>
        </p:nvPicPr>
        <p:blipFill>
          <a:blip r:embed="rId3"/>
          <a:srcRect l="0" t="7647" r="0" b="15993"/>
          <a:stretch/>
        </p:blipFill>
        <p:spPr>
          <a:xfrm>
            <a:off x="179280" y="3933720"/>
            <a:ext cx="4319640" cy="2473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4"/>
          <p:cNvSpPr/>
          <p:nvPr/>
        </p:nvSpPr>
        <p:spPr>
          <a:xfrm>
            <a:off x="3490920" y="4365720"/>
            <a:ext cx="28908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1116000" y="530064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179280" y="443700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3995640" y="429408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1979640" y="4363920"/>
            <a:ext cx="2887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9"/>
          <p:cNvSpPr/>
          <p:nvPr/>
        </p:nvSpPr>
        <p:spPr>
          <a:xfrm>
            <a:off x="7308720" y="465300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23640" y="2708280"/>
            <a:ext cx="2879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114560" y="1843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低温疗法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333072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5" descr="634256032289843750"/>
          <p:cNvPicPr/>
          <p:nvPr/>
        </p:nvPicPr>
        <p:blipFill>
          <a:blip r:embed="rId1"/>
          <a:stretch/>
        </p:blipFill>
        <p:spPr>
          <a:xfrm>
            <a:off x="5364000" y="1268280"/>
            <a:ext cx="3311640" cy="2648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468431"/>
          <p:cNvPicPr/>
          <p:nvPr/>
        </p:nvPicPr>
        <p:blipFill>
          <a:blip r:embed="rId2"/>
          <a:stretch/>
        </p:blipFill>
        <p:spPr>
          <a:xfrm>
            <a:off x="5580000" y="4292640"/>
            <a:ext cx="2951280" cy="20350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2" name="Picture 8" descr="1268261083682660220"/>
          <p:cNvPicPr/>
          <p:nvPr/>
        </p:nvPicPr>
        <p:blipFill>
          <a:blip r:embed="rId3"/>
          <a:srcRect l="6674" t="13490" r="9319" b="12250"/>
          <a:stretch/>
        </p:blipFill>
        <p:spPr>
          <a:xfrm>
            <a:off x="1116000" y="4292640"/>
            <a:ext cx="3743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200931117253675285687"/>
          <p:cNvPicPr/>
          <p:nvPr/>
        </p:nvPicPr>
        <p:blipFill>
          <a:blip r:embed="rId1"/>
          <a:srcRect l="25222" t="26444" r="16831" b="19364"/>
          <a:stretch/>
        </p:blipFill>
        <p:spPr>
          <a:xfrm>
            <a:off x="5832360" y="1052640"/>
            <a:ext cx="3311640" cy="3097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354636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8" descr="20300000887868134449102860866"/>
          <p:cNvPicPr/>
          <p:nvPr/>
        </p:nvPicPr>
        <p:blipFill>
          <a:blip r:embed="rId2"/>
          <a:stretch/>
        </p:blipFill>
        <p:spPr>
          <a:xfrm>
            <a:off x="5796000" y="3860640"/>
            <a:ext cx="3024000" cy="26164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3429000" y="2119320"/>
            <a:ext cx="2286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AutoShape 13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7" name="Picture 16" descr="0129-00176-061b3"/>
          <p:cNvPicPr/>
          <p:nvPr/>
        </p:nvPicPr>
        <p:blipFill>
          <a:blip r:embed="rId3"/>
          <a:srcRect l="12611" t="3334" r="0" b="0"/>
          <a:stretch/>
        </p:blipFill>
        <p:spPr>
          <a:xfrm>
            <a:off x="1547640" y="3933720"/>
            <a:ext cx="3167280" cy="26272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7"/>
          <p:cNvSpPr/>
          <p:nvPr/>
        </p:nvSpPr>
        <p:spPr>
          <a:xfrm>
            <a:off x="2050920" y="4508640"/>
            <a:ext cx="86364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Rectangle 18"/>
          <p:cNvSpPr/>
          <p:nvPr/>
        </p:nvSpPr>
        <p:spPr>
          <a:xfrm>
            <a:off x="709308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802800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840" y="2276640"/>
            <a:ext cx="86104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-181080" y="1197000"/>
            <a:ext cx="9614160" cy="122400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708360" y="256536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708360" y="328464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708360" y="393372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708360" y="472428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2565000"/>
            <a:ext cx="883944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0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下的脉冲电流来治疗疾病的方法称为低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低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电解作用较直流电弱，有些电流无明显的电解作用；②对感觉神经和运动神经都有强的刺激作用；③无明显热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692360" y="1557360"/>
            <a:ext cx="4968720" cy="10080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电体操疗法：是应用低频脉冲电流刺激神经或肌肉产生收缩起到治疗作用的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285840"/>
            <a:ext cx="5857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258920" y="1341360"/>
            <a:ext cx="6478560" cy="9082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419640" y="393372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419640" y="465300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419640" y="530064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419640" y="6093000"/>
            <a:ext cx="1223640" cy="21564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85840" y="2708280"/>
            <a:ext cx="861048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经皮神经电刺激（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TEN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通过皮肤将特定的低频脉冲电流输入人体刺激神经以镇痛、治疗疾病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419640" y="4221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419640" y="4869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419640" y="5445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419640" y="6093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403280" y="1700280"/>
            <a:ext cx="6193080" cy="863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61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78136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功能性电刺激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应用一定强度的低频脉冲电流刺激已丧失功能的器官或肢体，以所产生的即时效应来代替或纠正器官或肢体功能的康复治疗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1692360" y="1484280"/>
            <a:ext cx="5184720" cy="9144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419640" y="4292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419640" y="4797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419640" y="5300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3419640" y="5805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40:56Z</dcterms:modified>
  <cp:revision>120</cp:revision>
  <dc:subject/>
  <dc:title>内科护理学</dc:title>
</cp:coreProperties>
</file>